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B4FB-781E-4360-ABBF-E8667E3F09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4258-CB4C-4A38-83DE-79AB6C3FFA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86A6-38FF-4124-BF64-DCA073E2B4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37A3-90F9-4280-B72B-78C06256C3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ED7-7C7E-4D71-A16A-1C093873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B24-620F-41B5-92A5-9FEF19D4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D78-62EE-4CE9-BB01-9A005473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0B5-0EDE-4AC7-9C5D-3E211F78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CCD-3A3E-4301-A437-53E39599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2CA-2B2B-4D68-92D9-7FCF1127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1A0-D5A1-4C36-B626-C3481977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FFC-F0C6-43DC-ACBE-B68CA19E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C86-DEE4-4E53-95CA-8324FF77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DFE-59B5-4252-91EF-56F4A01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555-D121-42A7-BC67-A3EB0EE6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86A-379E-4CEC-A325-C0EB757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54D9-674E-4825-94AC-7E29D98421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457200" y="685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Чему равна площадь поверхности куба с ребром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2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36" descr=""/>
          <p:cNvPicPr/>
          <p:nvPr/>
        </p:nvPicPr>
        <p:blipFill>
          <a:blip r:embed="rId1"/>
          <a:stretch/>
        </p:blipFill>
        <p:spPr>
          <a:xfrm>
            <a:off x="3278160" y="2135160"/>
            <a:ext cx="25862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айдите площадь боковой поверхности правильной шестиугольной призмы, сторона основания которой равна 5 см, а высота 10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300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4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7200" y="6858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Основанием прямой треугольной призмы служит прямоугольный треугольник с катетами 3 см и 4 см, высота призмы равна 10 см. Найдите площадь поверхности данной пр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132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5005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10:49Z</dcterms:created>
  <dc:creator>*</dc:creator>
  <dc:description/>
  <dc:language>en-US</dc:language>
  <cp:lastModifiedBy>Юрий</cp:lastModifiedBy>
  <dcterms:modified xsi:type="dcterms:W3CDTF">2013-03-18T07:07:50Z</dcterms:modified>
  <cp:revision>30</cp:revision>
  <dc:subject/>
  <dc:title>Объем фигур в пространстве</dc:title>
</cp:coreProperties>
</file>